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9775-18E7-4DDD-924C-94EC0729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4011-7824-441D-AB3D-A88130E9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9BF4-D4E7-461A-AE36-9412D2FE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E7B8-CF70-49DD-B7C8-EC3F0617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9AE17-EDFA-4FD4-897F-70B3F81B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429F4-E330-446D-8924-8C35D3D7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2B209-27FE-4648-A6F4-CA5D62D0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BA7C6-25B9-496A-9474-38A6AC6D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CA899-564C-4683-B549-E23B23BA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1A645-0267-4049-87DC-D43C20EB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1AB1D-AB82-46B1-8E73-6F8CB1AE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03E2-8533-489E-A53D-895B59E6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9610D-402E-4318-99A5-B9806825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2AE1C-AD32-4A4F-9A09-C9F9230B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3A842-AD2F-4CB8-9C6F-749FFD6E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5768E-6EB4-40A3-98FF-58B213D7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1BAFF-3640-4612-A3EE-B73802B0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B2A2-73C4-4806-BB31-693B990C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0315-87AE-43A3-BA6D-18C96AA5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58B9-2E5F-4D16-B98B-58A33E21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5245-3EAA-408E-A4ED-E8C7122E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2EC0-6C8F-45BA-9161-50900B65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833B-0837-42FF-AEA8-D0C17BA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ABA2-D0A3-4AC3-B0DE-E6708A03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92D6-8F7A-427D-9149-E80D1F0CE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 3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12720" cy="6858000"/>
          </a:xfrm>
          <a:prstGeom prst="rect">
            <a:avLst/>
          </a:prstGeom>
          <a:solidFill>
            <a:srgbClr val="ce7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286000" y="6324480"/>
          <a:ext cx="2133720" cy="3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6324480"/>
                    <a:ext cx="21337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704880" y="6324480"/>
          <a:ext cx="1428840" cy="32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4880" y="6324480"/>
                    <a:ext cx="142884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" name=""/>
          <p:cNvGraphicFramePr/>
          <p:nvPr/>
        </p:nvGraphicFramePr>
        <p:xfrm>
          <a:off x="609480" y="990720"/>
          <a:ext cx="7999560" cy="43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990720"/>
                    <a:ext cx="799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"/>
          <p:cNvSpPr/>
          <p:nvPr/>
        </p:nvSpPr>
        <p:spPr>
          <a:xfrm>
            <a:off x="5867280" y="6324480"/>
            <a:ext cx="2232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egon Health &amp; Science Uni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lex Systems Labor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343400" y="6324480"/>
            <a:ext cx="15159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System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Ph.D.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5DE0-DADB-4B97-86AA-61C09FBD832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12720" cy="6858000"/>
          </a:xfrm>
          <a:prstGeom prst="rect">
            <a:avLst/>
          </a:prstGeom>
          <a:solidFill>
            <a:srgbClr val="ce7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6248520"/>
          <a:ext cx="228600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6248520"/>
                    <a:ext cx="228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04880" y="6324480"/>
          <a:ext cx="1428840" cy="32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4880" y="6324480"/>
                    <a:ext cx="142884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09480" y="2590920"/>
          <a:ext cx="7999560" cy="43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2590920"/>
                    <a:ext cx="799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800600" y="6248520"/>
            <a:ext cx="15159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System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Verdana"/>
              </a:rPr>
              <a:t>Ph.D.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6248520"/>
            <a:ext cx="2232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egon Health &amp; Science Uni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lex Systems Labor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1144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94472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2058840" algn="ctr">
              <a:spcBef>
                <a:spcPts val="550"/>
              </a:spcBef>
              <a:buClr>
                <a:srgbClr val="000000"/>
              </a:buClr>
              <a:buFont typeface="Wingdings 3" charset="2"/>
              <a:buChar char="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17332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173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2173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ibrating an Intracranial Pressure Dynamics Model with Annotated Clinical Data--a Progress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6320" y="31240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W. Wakelan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B. Goldstei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J. McName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3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Systems Science Ph.D. Program, Portland State University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plex Systems Laboratory, Oregon Health &amp; Science University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Biomedical Signal Processing Laboratory, Portland State University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5791320"/>
            <a:ext cx="792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This work was supported in part by the Thrasher Research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629F0-B660-4026-8B8F-75E5299D85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: Clinical Data, HOB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73CB3-FF5B-4DE0-B296-790A978A09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: Clinical Data, ETCO2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F666-D3DE-43F7-9E59-EB421A5CB12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: Model Response to HOB Decre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5239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38080" y="1447920"/>
          <a:ext cx="8001000" cy="47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800100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362320" y="2209680"/>
            <a:ext cx="26668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Actual ICP data has been low-pass filtered and decimated to remove the pulsatil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3600" y="30481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5D8E-F0E1-4469-9505-8724488BFD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: Model Response to HOB Incre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1523880"/>
          <a:ext cx="82296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2296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209680" y="4495680"/>
            <a:ext cx="266724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Actual ICP data has been low-pass filtered and decimated to remove the pulsatil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3600" y="30481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F2D2-D993-42D0-8D1E-1C1CED2D762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: Model Response to ET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cr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47644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1523880"/>
          <a:ext cx="8229600" cy="47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22960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286000" y="2438280"/>
            <a:ext cx="26668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Actual ICP data has been low-pass filtered and decimated to remove the pulsatil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3600" y="30481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B1E1-50EC-4760-AE49-DE3A7D878FD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s: Model Response to ET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cre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371600"/>
          <a:ext cx="82296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229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09680" y="4495680"/>
            <a:ext cx="266724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Actual ICP data has been low-pass filtered and decimated to remove the pulsatil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3600" y="30481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E555-74E7-4D9A-B9F2-C1634F3CD3E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ion: Model vs. Actual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Model response to raising HOB is very similar to actual response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Model Response to lowering the HOB is less similar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s is plausible since lowering HOB increases ICP, and the body has several mechanisms to resist such increase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st of these are not included in the current model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Response to ET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Garamond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 changes did not fully reflect the patient’s actual response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is is not unexpected, for the same reason: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Reliance on a single cerebrovascular AR mechanism in the model</a:t>
            </a:r>
            <a:endParaRPr b="1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4309-1683-4103-BFA6-4E0C45AAE39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ion: 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model of ICP dynamics was calibrated to replicate the ICP recorded from specific patient during an experimental protoco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alculated ICP closely resembles actual ICP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cerebrovascular AR logic in the model only partially captures the patient’s response to respiration chang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Next steps: (1) refine the AR logic in the model   (2) use optimization to automate the calibration process (3) predict respons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652C-B425-481E-9F49-C6796F09A80A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: Intracranial Pressure (IC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raumatic brain injury often causes ICP to increas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Frequently due, at least initially, to internal bleeding (hematoma)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rsistent elevated ICP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reduced blood flow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insufficient tissue perfusion (ischemia)     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secondary injury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poor outcom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Poor outcomes often occur despite the availability of many treatment option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pathophysiology is complex and only partially understood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BB77-14B9-47C4-88F3-DB82C490F1B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: ICP Dynamic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Many computer models of ICP have been developed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Models have sophisticated logic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Potentially very helpful in a clinical setting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However, clinical impact of models has been minima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plex models are difficult to understand and use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Another issue is that clinical data often lack the annotations needed to facilitate modeling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Exact timing for medications, CSF drainage, ventilator adjustments, etc.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97680-F162-4B14-94C6-B1298D127F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Use an IRB approved protocol to collect prospective clinical data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arefully annotate the data regarding timing of therapy and mild physiologic challenges 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Use the data to calibrate a computer model of ICP dynamic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Use the calibrated model to estimate patient response to treatment and challenge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mpare model response to actual patient respons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mprove the model and the calibration proces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A2FE9-08FA-4A9D-9856-DCEA9C6815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: Experimental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hange the angle of the head of the bed (HOB)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From 30º to 0º for example, and vice versa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Such changes directly influence ICP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hange the minute ventilation (VR)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linician adjusts VR to achieve specified ET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ecreasing ET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 (mild hyperventilation) triggers cerebrovascular autoregulatory (AR) response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racranial vessels constrict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racranial blood volume decreases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CP decrease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Increasing ET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 has the opposite effect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831A-6E66-448E-8FAB-7E47EE8C6D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hod: ICP Dynamic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Core model logic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State variables: fluid volumes and AR status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Estimated parameters:  compliance, resistance, hematoma volume and rate, control parameters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puted variables: fluid flows and pressures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Six intracranial volumes (state variables)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Arterial blood (ABV), Capillary blood (CBV)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Venous blood (VBV), Cerebral spinal fluid  (CSF)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Brain tissue (BTV), Hematoma (HV)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C5BE-B8B7-453C-8D88-6BC703EED1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: Diagram showing Volumes &amp; Flow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0200" y="762120"/>
          <a:ext cx="632448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762120"/>
                    <a:ext cx="63244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4ED6-E29E-47B7-BA79-38A900F834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: Model Logic for Press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otal Cranial Volume = ABV+CBV+VBV+CSF+BTV+HV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tracranial Pressure (ICP)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= Base ICP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(Total Cranial Volume–Base Cranial Volume)/PVI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PVI (pressure-volume index) is the amount of added fluid that would cause pressure to increase by a factor of 10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Arterial, capillary, and venous pressures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P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Garamond"/>
                <a:ea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= ICP + (ABV)/(Arterial Compliance)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P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Garamond"/>
                <a:ea typeface="Times New Roman"/>
              </a:rPr>
              <a:t>cb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= ICP + (CBV)/(Capillary Compliance)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P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Garamond"/>
                <a:ea typeface="Times New Roman"/>
              </a:rPr>
              <a:t>vb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 = ICP + (VBV)/(Venous Compliance)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01CA-9B02-4592-9B2D-9BC833C8D9B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hod: Model Logic for Cerebrovascular 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Arteriolar resistance changes in order to maintain needed blood flow rat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higher resistance = constriction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Lower resistance = dilation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Time constant for adjustment process: 2-3 minutes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Upper and lower bounds 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Cerebrovasular AR responds to multiple stimuli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Changing Metabolic needs (e.g., asleep vs. awake)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000000"/>
              </a:buClr>
              <a:buFont typeface="Wingdings 3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Changing ICP, arterial blood pressure, HOB, and VR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C65F-844E-4D34-A2B6-05B92BC1CC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07:00:45Z</dcterms:created>
  <dc:creator>wayne wakeland</dc:creator>
  <dc:description/>
  <dc:language>en-US</dc:language>
  <cp:lastModifiedBy>User</cp:lastModifiedBy>
  <dcterms:modified xsi:type="dcterms:W3CDTF">2004-08-27T01:58:42Z</dcterms:modified>
  <cp:revision>65</cp:revision>
  <dc:subject/>
  <dc:title>PowerPoint Presentation</dc:title>
</cp:coreProperties>
</file>