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611-E317-4FD3-AC8F-23EB471E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E2D-0633-4863-BD34-24A39E18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9A4-8DBA-4E3D-94B5-434D4F06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082-0081-46F5-837B-61E4DC6F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4D84-71A5-4DD1-A54A-781B6A85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3B527-3A11-4AD5-8C3C-3148ED3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AA6D-7A9D-4BFD-8CF7-7A9DCB5A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B1DFB-D0E7-4936-B4D6-154330E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039C1-0B90-4D9C-90F4-366D111F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97677-ED2B-45E5-B9F4-53A52485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E2B3F-D5B5-46D3-BD02-327F2B8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31F-840F-4702-BC1D-514987D5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A3E4A-F86E-4EE0-A9AF-5C66BFB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EF2C5-2925-4564-9351-D6B60C8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A9932-A800-448A-8C4C-EBE4BC14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F1BB9-F8B5-4F05-9852-2CE247D8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3EBA-DAC0-470A-B1D5-BBC034CB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8F8-0F04-4847-8D18-8217FB8C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BCA-6F1B-427F-845F-EC520AA4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7CA-19EB-4059-B9AF-E9B0F03E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796-C226-416D-A7C7-6CFB6ECA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F8C-5CA0-414A-AB09-6D2B08B3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985-87DF-4085-AA50-FD17DEC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ABD-5223-4A1C-BC5F-A55172C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8F4C-2D53-4A55-8204-224BD151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 3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612720" cy="6858000"/>
          </a:xfrm>
          <a:prstGeom prst="rect">
            <a:avLst/>
          </a:prstGeom>
          <a:solidFill>
            <a:srgbClr val="ce7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6553080" y="6310440"/>
          <a:ext cx="2560680" cy="47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310440"/>
                    <a:ext cx="25606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704880" y="6324480"/>
          <a:ext cx="165744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4880" y="6324480"/>
                    <a:ext cx="1657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" name=""/>
          <p:cNvGraphicFramePr/>
          <p:nvPr/>
        </p:nvGraphicFramePr>
        <p:xfrm>
          <a:off x="609480" y="990720"/>
          <a:ext cx="799956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990720"/>
                    <a:ext cx="799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580D-73F2-450D-BB04-65ADF44380D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12720" cy="6858000"/>
          </a:xfrm>
          <a:prstGeom prst="rect">
            <a:avLst/>
          </a:prstGeom>
          <a:solidFill>
            <a:srgbClr val="ce7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553080" y="6310440"/>
          <a:ext cx="2560680" cy="47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310440"/>
                    <a:ext cx="25606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704880" y="6324480"/>
          <a:ext cx="165744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4880" y="6324480"/>
                    <a:ext cx="1657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9480" y="2590920"/>
          <a:ext cx="799956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2590920"/>
                    <a:ext cx="799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1144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94472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2058840" algn="ctr">
              <a:spcBef>
                <a:spcPts val="550"/>
              </a:spcBef>
              <a:buClr>
                <a:srgbClr val="000000"/>
              </a:buClr>
              <a:buFont typeface="Wingdings 3" charset="2"/>
              <a:buChar char="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17332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173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173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Intracranial Fluid Flows and Volum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uring Traumatic Brain Injury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 Pressure Dynam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696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W. Wakelan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1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J. McName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2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M. Abo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. Hollem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3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B. Goldste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Systems Science Ph.D. Program, Portland State University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Biomedical Signal Processing Laboratory, Portland State University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Systems Laboratory, Oregon Health &amp; Science University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inical Referenc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orded 3 episodes of ICP during CSF drainage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Traumatic brain injury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Pediatric intensive care unit (PICU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Removed pulsatile component with lowpass filtering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Sample rate: 1.25 Hz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lowing plots omit drainage period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CP Before and After CSF Drain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1905120"/>
          <a:ext cx="83059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3059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Calibrated to Fit Clinic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24 mL epidural hematoma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6.5 mL CSF drainag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levated CSF uptake resistanc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Reduces rate at which ventricles are refilled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sibly models impeded flow due to injury or swelling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2436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739880"/>
          <a:ext cx="81532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39880"/>
                    <a:ext cx="8153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Run Calibrated to Clinical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roduced preliminary model of ICP dynamic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Uses fluid volumes as state variables, not pressure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monstrated modeling of clinical even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erebral spinal fluid (CSF) drain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alibrated three parameters to patient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Observed and modeled ICP transients in good agreement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Model advantages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an estimate variables that cannot be clinically measur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Enables researchers to test hypotheses about multiple potential etiologie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cranial Pressure (ICP)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umatic brain injury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ar accident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Blunt trauma (hit on the head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all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evated ICP often follows due to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Swelling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Hematoma (bleeding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f elevated ICP persists, insufficient blood flow leads to secondary injury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nical challenge: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aintain sufficient blood flow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Keep ICP within safe range (&lt;20 mmHg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 Controvers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oor outcomes are common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Despite availability of many treatment option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 due to secondary brain injury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athophysiology of TBI only partially understood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apies for pediatric TBI have not been rigorously assessed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Randomized control studie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Application of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We are developing a model of ICP dynamic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annot measure many variables of interes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Blood flow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Cerebral compliance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Metabolic demand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Cerebral autoregulation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Our approach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Create dynamic model with all variables of interest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Calibrate to patients based on observed variables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CP, ABP, CVP, etc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Estimate variables of interest with dynamic model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Cerebral compliance, blood flow, etc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Equ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Six intracranial compartment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Arterial blood (ABV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Capillary blood (CBV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Venous blood (VBV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Cerebral spinal fluid  (CSF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Brain tissue (BTV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Hematoma (HV)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artmental pressure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P</a:t>
            </a:r>
            <a:r>
              <a:rPr b="1" lang="en-US" sz="2100" spc="-1" strike="noStrike" baseline="-30000">
                <a:solidFill>
                  <a:srgbClr val="000000"/>
                </a:solidFill>
                <a:latin typeface="Garamond"/>
                <a:ea typeface="Times New Roman"/>
              </a:rPr>
              <a:t>ab </a:t>
            </a: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= ICP + (ABV)/(Arterial Compliance)</a:t>
            </a:r>
            <a:endParaRPr b="1" lang="en-US" sz="21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P</a:t>
            </a:r>
            <a:r>
              <a:rPr b="1" lang="en-US" sz="2100" spc="-1" strike="noStrike" baseline="-30000">
                <a:solidFill>
                  <a:srgbClr val="000000"/>
                </a:solidFill>
                <a:latin typeface="Garamond"/>
                <a:ea typeface="Times New Roman"/>
              </a:rPr>
              <a:t>cb </a:t>
            </a: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= ICP + (CBV)/(Capillary Compliance)</a:t>
            </a:r>
            <a:endParaRPr b="1" lang="en-US" sz="21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P</a:t>
            </a:r>
            <a:r>
              <a:rPr b="1" lang="en-US" sz="2100" spc="-1" strike="noStrike" baseline="-30000">
                <a:solidFill>
                  <a:srgbClr val="000000"/>
                </a:solidFill>
                <a:latin typeface="Garamond"/>
                <a:ea typeface="Times New Roman"/>
              </a:rPr>
              <a:t>vb</a:t>
            </a:r>
            <a:r>
              <a:rPr b="1" lang="en-US" sz="2100" spc="-1" strike="noStrike">
                <a:solidFill>
                  <a:srgbClr val="000000"/>
                </a:solidFill>
                <a:latin typeface="Garamond"/>
                <a:ea typeface="Times New Roman"/>
              </a:rPr>
              <a:t> = ICP + (VBV)/(Venous Compliance)</a:t>
            </a:r>
            <a:endParaRPr b="1" lang="en-US" sz="2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ntracranial Pressure (ICP)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ICP = BaseICP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(Total Cranial Volume–Base Cranial Volume)/PVI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P Dynamic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1447920"/>
          <a:ext cx="669924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69924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ing an Epidural Hemato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Simulation parameter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4</a:t>
            </a:r>
            <a:r>
              <a:rPr b="1" lang="en-US" sz="26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 order Runge-Kutta integration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Fixed step size (30 ms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itial condition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Dynamic state of equilibrium (steady state flows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Hematoma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SF drainag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Reduces volume in the cranium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Reduces ICP in turn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motes better blood flow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turbations and Respon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turbation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1.0-1.5 min.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Arterial blood volume drained to hematoma volume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Fixed rate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2.0-2.3 min.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Cerebral spinal fluid drainage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Fixed rate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sponse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1.0-1.5 min.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CP increases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Venous and arterial blood is forced from the cranial vault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2.0-2.3 min.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CP decreases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Venous and arterial blood volumes normalize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692360"/>
          <a:ext cx="80773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92360"/>
                    <a:ext cx="80773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0621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7:00:45Z</dcterms:created>
  <dc:creator>wayne wakeland</dc:creator>
  <dc:description/>
  <dc:language>en-US</dc:language>
  <cp:lastModifiedBy>James McNames</cp:lastModifiedBy>
  <dcterms:modified xsi:type="dcterms:W3CDTF">2003-09-19T12:56:58Z</dcterms:modified>
  <cp:revision>21</cp:revision>
  <dc:subject/>
  <dc:title>PowerPoint Presentation</dc:title>
</cp:coreProperties>
</file>